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29B-073E-4893-9D10-CFC1D14E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A3B-4D61-4F24-B830-6B38FB5F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393-6095-4E06-9BB2-794F2DB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D59-B72E-41BC-903B-FE2B92B2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E3D-14C1-4603-96AA-8C82363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5A7-A96F-47C7-BC61-80039C2E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C95-3AE6-42AA-A2EC-862C182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C51-2867-47BA-BFDE-9BE488A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C52-EC24-4C21-B600-66AD660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7A2-34E9-47A2-93CC-A8D6901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E3B-0215-4BEB-9FAA-4E6149E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62E-748C-4CFF-920E-EC30839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A18-F0FE-43D4-9C06-ECD7C8B3D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5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410080" y="685800"/>
            <a:ext cx="1447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ödmann – Idi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tenzaun – f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scht – wi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überlegen – lang und hart den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–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inst du? = denkst du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nen – to know a 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en – spre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in einziger – not a si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uert ewig – lasts for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28600" y="220968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048120" y="251460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143000" y="3048120"/>
            <a:ext cx="11430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800" y="3962520"/>
            <a:ext cx="76212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0720" y="4191120"/>
            <a:ext cx="8380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228600" y="449568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28600" y="5105520"/>
            <a:ext cx="6858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371600" y="5105520"/>
            <a:ext cx="6858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200400" y="6248520"/>
            <a:ext cx="13716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1905120" y="7924680"/>
            <a:ext cx="121896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5181480" cy="8317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295280" y="304920"/>
            <a:ext cx="99072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981080" y="4038480"/>
            <a:ext cx="76212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6172200"/>
            <a:ext cx="9144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4572000"/>
            <a:ext cx="160020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219320" y="434340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7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5410080" y="685800"/>
            <a:ext cx="1447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pricht – spricht ü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k/Bänke – Stuh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würdig – komisch, interess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ist mir egal – what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ärger – trouble (wie in Proble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769608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2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10080" y="685800"/>
            <a:ext cx="14479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ig - fore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fangs – am Anf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ärgert – böse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raben – in die Erde stecken oder gra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weismittel – evid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erarzt – ein Doktor für Ti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ersuchen – to exa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914400"/>
            <a:ext cx="60948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2438280"/>
            <a:ext cx="91440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72000" y="3962520"/>
            <a:ext cx="68580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95280" y="4876920"/>
            <a:ext cx="160020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343400" y="5791320"/>
            <a:ext cx="9144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666880" y="6095880"/>
            <a:ext cx="160020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48560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5616720" cy="2198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914400" y="1447920"/>
            <a:ext cx="335268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3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410080" y="6858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cheid sagen – tell for 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248520" cy="5002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0" y="5334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u Kapitel 6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r Schmidt, der Lehrer, hilft Einstein mit dem Fall.  Wie?  Schreib deine Antwort auf Deutsc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20:05:01Z</dcterms:created>
  <dc:creator>tmsadmin</dc:creator>
  <dc:description/>
  <dc:language>en-US</dc:language>
  <cp:lastModifiedBy>tmsadmin</cp:lastModifiedBy>
  <dcterms:modified xsi:type="dcterms:W3CDTF">2014-05-13T20:24:34Z</dcterms:modified>
  <cp:revision>6</cp:revision>
  <dc:subject/>
  <dc:title>Slide 1</dc:title>
</cp:coreProperties>
</file>